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7EF-0FF8-4611-8210-A8A05B3B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0BB8-291E-4CB0-88B0-2B85BD65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7D2-2ED8-44D7-8B71-6427FB56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7ED-DC96-4879-9645-6E8B6C70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80A-2F62-4E02-89F9-31FE157A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2419-9B50-4AD8-8D40-D8DDB0F8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8091-5123-4DA0-8AD6-10EC953F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9F1-72BA-4779-9D1F-2151D7E5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53C-6AF8-45EA-8454-AFC98FB7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FF1-585B-4BFB-9427-9FF94411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BE5-061F-41E9-B85E-585B0A80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13C7-0C7B-445F-A6CB-77FA4E29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A8BE-3663-4AF0-8755-22BDF898A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Bog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mbian 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mbian woman usually wear flowery shirts and long skir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mbian men usually wear white shirts and white  pants with either a white or beige 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441520" y="1135080"/>
            <a:ext cx="4260960" cy="4181400"/>
            <a:chOff x="2441520" y="1135080"/>
            <a:chExt cx="4260960" cy="4181400"/>
          </a:xfrm>
        </p:grpSpPr>
        <p:sp>
          <p:nvSpPr>
            <p:cNvPr id="46" name="_s5159"/>
            <p:cNvSpPr/>
            <p:nvPr/>
          </p:nvSpPr>
          <p:spPr>
            <a:xfrm flipH="1" flipV="1">
              <a:off x="3724200" y="2629800"/>
              <a:ext cx="424080" cy="3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5158"/>
            <p:cNvSpPr/>
            <p:nvPr/>
          </p:nvSpPr>
          <p:spPr>
            <a:xfrm>
              <a:off x="2755800" y="1747800"/>
              <a:ext cx="1086120" cy="10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m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] Drink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icha,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cohol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ve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und in the city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5157"/>
            <p:cNvSpPr/>
            <p:nvPr/>
          </p:nvSpPr>
          <p:spPr>
            <a:xfrm flipH="1">
              <a:off x="3516480" y="3425760"/>
              <a:ext cx="527040" cy="12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5156"/>
            <p:cNvSpPr/>
            <p:nvPr/>
          </p:nvSpPr>
          <p:spPr>
            <a:xfrm>
              <a:off x="2441520" y="3125520"/>
              <a:ext cx="1085760" cy="10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m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od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m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 usuall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at Aborrajado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hich is deep fri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ntains with chees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5155"/>
            <p:cNvSpPr/>
            <p:nvPr/>
          </p:nvSpPr>
          <p:spPr>
            <a:xfrm flipH="1">
              <a:off x="4103640" y="3794040"/>
              <a:ext cx="23328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54"/>
            <p:cNvSpPr/>
            <p:nvPr/>
          </p:nvSpPr>
          <p:spPr>
            <a:xfrm>
              <a:off x="3324240" y="4230360"/>
              <a:ext cx="1085760" cy="10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m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usic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mbian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sten t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len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 Porr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5143"/>
            <p:cNvSpPr/>
            <p:nvPr/>
          </p:nvSpPr>
          <p:spPr>
            <a:xfrm>
              <a:off x="4807080" y="3794040"/>
              <a:ext cx="236520" cy="48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42"/>
            <p:cNvSpPr/>
            <p:nvPr/>
          </p:nvSpPr>
          <p:spPr>
            <a:xfrm>
              <a:off x="4737240" y="4228920"/>
              <a:ext cx="1085760" cy="10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m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ncing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mbia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waltz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5139"/>
            <p:cNvSpPr/>
            <p:nvPr/>
          </p:nvSpPr>
          <p:spPr>
            <a:xfrm>
              <a:off x="5100480" y="3425760"/>
              <a:ext cx="528840" cy="12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5138"/>
            <p:cNvSpPr/>
            <p:nvPr/>
          </p:nvSpPr>
          <p:spPr>
            <a:xfrm>
              <a:off x="5616720" y="3124080"/>
              <a:ext cx="1085760" cy="10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mbia h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republic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5137"/>
            <p:cNvSpPr/>
            <p:nvPr/>
          </p:nvSpPr>
          <p:spPr>
            <a:xfrm flipV="1">
              <a:off x="4995720" y="2628360"/>
              <a:ext cx="424080" cy="33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5136"/>
            <p:cNvSpPr/>
            <p:nvPr/>
          </p:nvSpPr>
          <p:spPr>
            <a:xfrm>
              <a:off x="5302080" y="1747800"/>
              <a:ext cx="1086120" cy="10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mbi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a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anish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5135"/>
            <p:cNvSpPr/>
            <p:nvPr/>
          </p:nvSpPr>
          <p:spPr>
            <a:xfrm flipV="1">
              <a:off x="4572000" y="222084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5134"/>
            <p:cNvSpPr/>
            <p:nvPr/>
          </p:nvSpPr>
          <p:spPr>
            <a:xfrm>
              <a:off x="4029120" y="1135080"/>
              <a:ext cx="1085760" cy="10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5%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mbi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 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m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thol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5126"/>
            <p:cNvSpPr/>
            <p:nvPr/>
          </p:nvSpPr>
          <p:spPr>
            <a:xfrm>
              <a:off x="4029120" y="2763720"/>
              <a:ext cx="1085760" cy="10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m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l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1:51:07Z</dcterms:created>
  <dc:creator>teacher</dc:creator>
  <dc:description/>
  <dc:language>en-US</dc:language>
  <cp:lastModifiedBy>teacher</cp:lastModifiedBy>
  <dcterms:modified xsi:type="dcterms:W3CDTF">2010-05-06T15:11:13Z</dcterms:modified>
  <cp:revision>3</cp:revision>
  <dc:subject/>
  <dc:title>Colombia</dc:title>
</cp:coreProperties>
</file>